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375C-7D56-4DC8-B8AE-BB136C7A0B0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94D0-3C06-49E4-ACE5-44020F220206}" type="slidenum"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D57D-4098-41F8-BC9B-98F33834533A}" type="slidenum"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E311-ABED-4C03-9A97-7D874240BDDF}" type="slidenum">
              <a:rPr b="0" lang="ru-RU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7A64-C2A7-4139-B785-BE4CF8F24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AAB-589D-4F80-A748-B139883C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68DB-0989-4EC0-AFEF-115CD884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A887-4CB2-4021-93D7-AE363AF1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3A19-C6AB-4867-8D19-E1C9BADCB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C633-48EC-4E2C-9378-05B0B560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D287-8339-4341-B328-3B87C392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1812-60AF-4441-A8E7-450C496B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630C-72AC-422D-886B-4E191B15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A93D-71A2-4AF0-AB10-ED4BAA67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DD5E-EB55-4F0B-8FDC-8C3AFB24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9A76-0538-4ED2-A17A-B294D20A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F6CF-10FD-4E6A-BAF6-35F67E72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3F2D-F686-49B5-B097-5841169C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7416-31ED-4B56-AC5B-E145E56B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A3B6-E100-428D-9F2C-EF7CB999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E1B5-1252-4A68-B516-AEDB32786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617-37A8-460C-AD09-2C7AEC34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E256-0F12-4A67-8766-6747B965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09C-65AB-4B48-A2C2-48ACAD29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5EC-E90E-46A0-919C-74E1BE83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D5D-CDFA-4811-8A2F-12C77888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9E3-738A-49BA-ACFA-FBBAB2E3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A1A-B03E-4473-97FA-D3C91862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679B-BC8D-4E7D-893B-878149BE9F25}" type="slidenum">
              <a:rPr b="0" lang="ru-RU" sz="1400" spc="-1" strike="noStrike">
                <a:solidFill>
                  <a:srgbClr val="33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028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1029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58" name="Rectangle 1030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grpSp>
        <p:nvGrpSpPr>
          <p:cNvPr id="59" name="Group 1031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1032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61" name="Rectangle 1033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ff66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grpSp>
        <p:nvGrpSpPr>
          <p:cNvPr id="62" name="Group 1034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035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64" name="Rectangle 1036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grpSp>
        <p:nvGrpSpPr>
          <p:cNvPr id="65" name="Group 1037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038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67" name="Rectangle 1039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99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cc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C9EE-2162-4FA6-8F7F-65F1C194336C}" type="slidenum">
              <a:rPr b="0" lang="ru-RU" sz="1400" spc="-1" strike="noStrike">
                <a:solidFill>
                  <a:srgbClr val="3399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nevskys@mail.ru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5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42600" y="5357880"/>
            <a:ext cx="80010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ff"/>
                </a:solidFill>
                <a:latin typeface="Monotype Corsiva"/>
              </a:rPr>
              <a:t>Функциональные стили речи</a:t>
            </a:r>
            <a:endParaRPr b="0" lang="en-US" sz="54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17" name="Рисунок 3" descr="книга.jpg"/>
          <p:cNvPicPr/>
          <p:nvPr/>
        </p:nvPicPr>
        <p:blipFill>
          <a:blip r:embed="rId1"/>
          <a:stretch/>
        </p:blipFill>
        <p:spPr>
          <a:xfrm>
            <a:off x="2771640" y="981000"/>
            <a:ext cx="5832720" cy="4552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4"/>
          <p:cNvSpPr/>
          <p:nvPr/>
        </p:nvSpPr>
        <p:spPr>
          <a:xfrm>
            <a:off x="3921120" y="2060640"/>
            <a:ext cx="1817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т..тья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..клад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Д..алог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Б..седа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р..т..кол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Пр..каз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..портаж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..цензия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А….отация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Стих..творени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Р..ман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4168080" y="20541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а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4104720" y="23018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4086360" y="2543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4085640" y="278928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4215960" y="303696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TextBox 10"/>
          <p:cNvSpPr/>
          <p:nvPr/>
        </p:nvSpPr>
        <p:spPr>
          <a:xfrm>
            <a:off x="4439520" y="304020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TextBox 11"/>
          <p:cNvSpPr/>
          <p:nvPr/>
        </p:nvSpPr>
        <p:spPr>
          <a:xfrm>
            <a:off x="4199040" y="32576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и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4069800" y="352908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4063320" y="374328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е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4068000" y="4008600"/>
            <a:ext cx="4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нн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4420800" y="42530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4140360" y="4489560"/>
            <a:ext cx="7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о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57120"/>
            <a:ext cx="833436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ff"/>
                </a:solidFill>
                <a:latin typeface="Monotype Corsiva"/>
                <a:ea typeface="Times New Roman"/>
              </a:rPr>
              <a:t>Работа </a:t>
            </a:r>
            <a:br>
              <a:rPr sz="4800"/>
            </a:br>
            <a:r>
              <a:rPr b="1" lang="ru-RU" sz="4800" spc="-1" strike="noStrike">
                <a:solidFill>
                  <a:srgbClr val="3333ff"/>
                </a:solidFill>
                <a:latin typeface="Monotype Corsiva"/>
                <a:ea typeface="Times New Roman"/>
              </a:rPr>
              <a:t>в группах</a:t>
            </a:r>
            <a:br>
              <a:rPr sz="4800"/>
            </a:br>
            <a:br>
              <a:rPr sz="2800"/>
            </a:br>
            <a:r>
              <a:rPr b="1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Задание к тексту:</a:t>
            </a:r>
            <a:r>
              <a:rPr b="0" lang="ru-RU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1a2c"/>
                </a:solidFill>
                <a:uFillTx/>
                <a:latin typeface="Times New Roman"/>
                <a:ea typeface="Times New Roman"/>
              </a:rPr>
              <a:t>Прочитайте текст, проанализируйте его,  закончите предложения: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Этот текст относится к …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жно выделить следующие стилистические особенности…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 </a:t>
            </a:r>
            <a:br>
              <a:rPr sz="2800"/>
            </a:br>
            <a:r>
              <a:rPr b="0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 В. Н. Пчелинцеве из текста узнаем следующее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69" name="Picture 3" descr="C:\Documents and Settings\Сергей\Рабочий стол\160-da21fc539f5e8b239f458202ab50ae2a.jpg"/>
          <p:cNvPicPr/>
          <p:nvPr/>
        </p:nvPicPr>
        <p:blipFill>
          <a:blip r:embed="rId1"/>
          <a:stretch/>
        </p:blipFill>
        <p:spPr>
          <a:xfrm>
            <a:off x="3571920" y="357120"/>
            <a:ext cx="5072040" cy="13575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5840" y="380520"/>
            <a:ext cx="3000240" cy="26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Группа №1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1" lang="ru-RU" sz="1800" spc="-1" strike="noStrike" u="sng">
                <a:solidFill>
                  <a:srgbClr val="000033"/>
                </a:solidFill>
                <a:uFillTx/>
                <a:latin typeface="Times New Roman"/>
                <a:ea typeface="Times New Roman"/>
              </a:rPr>
              <a:t>Текст для анализа:</a:t>
            </a:r>
            <a:br>
              <a:rPr sz="1800"/>
            </a:b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татья о В. Н. Пчелицеве из энциклопедии «Карелия»</a:t>
            </a:r>
            <a:br>
              <a:rPr sz="1800"/>
            </a:br>
            <a:r>
              <a:rPr b="0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(Карелия: энциклопедия : в 3 т. / гл.ред. А. Ф. Титов. Петрозаводск, ИД «ПетроПресс», 2009) </a:t>
            </a:r>
            <a:endParaRPr b="0" lang="en-US" sz="18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71" name="Picture 2" descr="Пчелинцев Карелия"/>
          <p:cNvPicPr/>
          <p:nvPr/>
        </p:nvPicPr>
        <p:blipFill>
          <a:blip r:embed="rId1"/>
          <a:stretch/>
        </p:blipFill>
        <p:spPr>
          <a:xfrm>
            <a:off x="3429000" y="357120"/>
            <a:ext cx="5143680" cy="608184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172" name="Заголовок 1"/>
          <p:cNvSpPr/>
          <p:nvPr/>
        </p:nvSpPr>
        <p:spPr>
          <a:xfrm>
            <a:off x="714240" y="6072120"/>
            <a:ext cx="23338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a2c"/>
                </a:solidFill>
                <a:latin typeface="Times New Roman"/>
                <a:ea typeface="Times New Roman"/>
              </a:rPr>
              <a:t>Портрет Пчелинцева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3" name="Picture 6" descr="C:\Documents and Settings\Сергей\Рабочий стол\В.Пчелинцев\Снимки Пчелинцева\Портрет Пчелинцева.jpg"/>
          <p:cNvPicPr/>
          <p:nvPr/>
        </p:nvPicPr>
        <p:blipFill>
          <a:blip r:embed="rId2"/>
          <a:stretch/>
        </p:blipFill>
        <p:spPr>
          <a:xfrm>
            <a:off x="714240" y="3286080"/>
            <a:ext cx="2357640" cy="2786040"/>
          </a:xfrm>
          <a:prstGeom prst="rect">
            <a:avLst/>
          </a:prstGeom>
          <a:ln w="2232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Группа № 2</a:t>
            </a:r>
            <a:br>
              <a:rPr sz="1800"/>
            </a:br>
            <a:r>
              <a:rPr b="1" lang="ru-RU" sz="1800" spc="-1" strike="noStrike" u="sng">
                <a:solidFill>
                  <a:srgbClr val="000033"/>
                </a:solidFill>
                <a:uFillTx/>
                <a:latin typeface="Times New Roman"/>
                <a:ea typeface="Times New Roman"/>
              </a:rPr>
              <a:t>Текст для анализа: </a:t>
            </a: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Извещение о зачислении В. Н. Пчелинцева в Ленинградский горный институт </a:t>
            </a:r>
            <a:br>
              <a:rPr sz="1800"/>
            </a:br>
            <a:endParaRPr b="0" lang="en-US" sz="18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75" name="Picture 2" descr="Извещение о зачислении в институт"/>
          <p:cNvPicPr/>
          <p:nvPr/>
        </p:nvPicPr>
        <p:blipFill>
          <a:blip r:embed="rId1"/>
          <a:stretch/>
        </p:blipFill>
        <p:spPr>
          <a:xfrm>
            <a:off x="500040" y="857160"/>
            <a:ext cx="8143920" cy="4014720"/>
          </a:xfrm>
          <a:prstGeom prst="rect">
            <a:avLst/>
          </a:prstGeom>
          <a:ln w="0">
            <a:noFill/>
          </a:ln>
        </p:spPr>
      </p:pic>
      <p:sp>
        <p:nvSpPr>
          <p:cNvPr id="176" name="Заголовок 1"/>
          <p:cNvSpPr/>
          <p:nvPr/>
        </p:nvSpPr>
        <p:spPr>
          <a:xfrm>
            <a:off x="2857680" y="5572080"/>
            <a:ext cx="1928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a2c"/>
                </a:solidFill>
                <a:latin typeface="Times New Roman"/>
                <a:ea typeface="Times New Roman"/>
              </a:rPr>
              <a:t>С выпускного снимка</a:t>
            </a:r>
            <a:br>
              <a:rPr sz="3600"/>
            </a:b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7" name="Заголовок 1"/>
          <p:cNvSpPr/>
          <p:nvPr/>
        </p:nvSpPr>
        <p:spPr>
          <a:xfrm>
            <a:off x="7143840" y="5572080"/>
            <a:ext cx="20001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a2c"/>
                </a:solidFill>
                <a:latin typeface="Times New Roman"/>
                <a:ea typeface="Times New Roman"/>
              </a:rPr>
              <a:t>Снимок 10 а класса 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1a2c"/>
                </a:solidFill>
                <a:latin typeface="Times New Roman"/>
                <a:ea typeface="Times New Roman"/>
              </a:rPr>
              <a:t>1938 г</a:t>
            </a:r>
            <a:br>
              <a:rPr sz="3600"/>
            </a:b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78" name="Picture 8" descr="C:\Documents and Settings\Сергей\Рабочий стол\В.Пчелинцев\Снимки Пчелинцева\Фото с выпускного снимка.jpg"/>
          <p:cNvPicPr/>
          <p:nvPr/>
        </p:nvPicPr>
        <p:blipFill>
          <a:blip r:embed="rId2"/>
          <a:stretch/>
        </p:blipFill>
        <p:spPr>
          <a:xfrm>
            <a:off x="571680" y="4946760"/>
            <a:ext cx="2214360" cy="166680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pic>
        <p:nvPicPr>
          <p:cNvPr id="179" name="Picture 9" descr="C:\Documents and Settings\Сергей\Рабочий стол\В.Пчелинцев\Снимки Пчелинцева\Снимок 10 класса 1938г..jpg"/>
          <p:cNvPicPr/>
          <p:nvPr/>
        </p:nvPicPr>
        <p:blipFill>
          <a:blip r:embed="rId3"/>
          <a:stretch/>
        </p:blipFill>
        <p:spPr>
          <a:xfrm>
            <a:off x="4643280" y="4929120"/>
            <a:ext cx="2479680" cy="173844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4200" y="285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№3 </a:t>
            </a:r>
            <a:r>
              <a:rPr b="1" lang="ru-RU" sz="2000" spc="-1" strike="noStrike" u="sng">
                <a:solidFill>
                  <a:srgbClr val="000033"/>
                </a:solidFill>
                <a:uFillTx/>
                <a:latin typeface="Times New Roman"/>
                <a:ea typeface="Times New Roman"/>
              </a:rPr>
              <a:t>Текст для анализа</a:t>
            </a:r>
            <a:r>
              <a:rPr b="1" lang="ru-RU" sz="20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: Разговор В. Н. Пчелинцева с командиром</a:t>
            </a:r>
            <a:endParaRPr b="0" lang="en-US" sz="20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81" name="Заголовок 1"/>
          <p:cNvSpPr/>
          <p:nvPr/>
        </p:nvSpPr>
        <p:spPr>
          <a:xfrm>
            <a:off x="7000920" y="271476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1a2c"/>
                </a:solidFill>
                <a:latin typeface="Times New Roman"/>
                <a:ea typeface="Times New Roman"/>
              </a:rPr>
              <a:t>Снимок от 17.02.1937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2" name="Заголовок 1"/>
          <p:cNvSpPr/>
          <p:nvPr/>
        </p:nvSpPr>
        <p:spPr>
          <a:xfrm>
            <a:off x="6858000" y="5786280"/>
            <a:ext cx="20718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Фото с винтовкой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83" name="Picture 8" descr="C:\Documents and Settings\Сергей\Рабочий стол\В.Пчелинцев\Снимки Пчелинцева\Снимок от 17.02.37г..jpg"/>
          <p:cNvPicPr/>
          <p:nvPr/>
        </p:nvPicPr>
        <p:blipFill>
          <a:blip r:embed="rId1"/>
          <a:stretch/>
        </p:blipFill>
        <p:spPr>
          <a:xfrm>
            <a:off x="7286760" y="357120"/>
            <a:ext cx="1566720" cy="229392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pic>
        <p:nvPicPr>
          <p:cNvPr id="184" name="Picture 9" descr="C:\Documents and Settings\Сергей\Рабочий стол\В.Пчелинцев\Снимки Пчелинцева\Фото с винтовкой.jpg"/>
          <p:cNvPicPr/>
          <p:nvPr/>
        </p:nvPicPr>
        <p:blipFill>
          <a:blip r:embed="rId2"/>
          <a:stretch/>
        </p:blipFill>
        <p:spPr>
          <a:xfrm>
            <a:off x="6858000" y="3929040"/>
            <a:ext cx="2006640" cy="183672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185" name="Rectangle 8"/>
          <p:cNvSpPr/>
          <p:nvPr/>
        </p:nvSpPr>
        <p:spPr>
          <a:xfrm>
            <a:off x="428760" y="623880"/>
            <a:ext cx="6715080" cy="39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ahoma"/>
                <a:ea typeface="Times New Roman"/>
              </a:rPr>
              <a:t>Мастерство снайпер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найперские выстрелы Пчелинцева видели многие. Когда же о них стало известно командиру батальона, тот немедленно вызвал старшего сержанта на командный пункт.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Скажи, - поинтересовался комбат, - это случайно так получилось или ты действительно снайпер?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Нет, не случайно, товарищ капитан, - ответил Пчелинцев. – Ещё до войны я окончил двухгодичную школу снайперов и получил звание Снайпера СССР.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Снайпер – это замечательно! – воскликнул комбат. – Так это же твоё истинное дело на войне!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Я с удовольствием, если разрешите. Только вот винтовочку бы мне с оптическим прицелом.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Капитан посмотрел на взволнованное лицо командира разведчиков, как бы вспоминая что-то, а затем решительно проговорил: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6" name="Прямоугольник 8"/>
          <p:cNvSpPr/>
          <p:nvPr/>
        </p:nvSpPr>
        <p:spPr>
          <a:xfrm>
            <a:off x="357120" y="4572000"/>
            <a:ext cx="621504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- Разрешаю тебе охоту на фашистов пока что с обычной винтовкой. А когда будет снайперская – ты её получишь.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челинцев обрадовался разрешению комбата. Разведка, конечно, великое дело. Но снайпер на войне тоже фигура знатная. Правда, в тыл к врагу он не ходит, да и на переднем крае не всё время. Но уж если выйдет на «охоту», то держись, фашист!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7600" y="0"/>
            <a:ext cx="89060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№4 </a:t>
            </a:r>
            <a:br>
              <a:rPr sz="2400"/>
            </a:br>
            <a:r>
              <a:rPr b="1" lang="ru-RU" sz="2400" spc="-1" strike="noStrike" u="sng">
                <a:solidFill>
                  <a:srgbClr val="001a2c"/>
                </a:solidFill>
                <a:uFillTx/>
                <a:latin typeface="Times New Roman"/>
                <a:ea typeface="Times New Roman"/>
              </a:rPr>
              <a:t>Текст для анализа:</a:t>
            </a:r>
            <a:r>
              <a:rPr b="0" lang="ru-RU" sz="2400" spc="-1" strike="noStrike">
                <a:solidFill>
                  <a:srgbClr val="001a2c"/>
                </a:solidFill>
                <a:latin typeface="Times New Roman"/>
                <a:ea typeface="Times New Roman"/>
              </a:rPr>
              <a:t> В.Н. Пчелинцев о блокаде Ленинграда  </a:t>
            </a:r>
            <a:br>
              <a:rPr sz="2400"/>
            </a:b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28760" y="856800"/>
            <a:ext cx="81439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 своей книге «Из боевого опыта снайпера» (М., 1952, с.15) Владимир Николаевич  Пчелинцев рассказывал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«Ленинградцы страдали от холода и голода, их бомбили, у них не было воды, освещения. И вот в эти дни я получил маленькую посылочку из  Ленинграда, в которой заботливой детской рукой среди других вещей был уложен </a:t>
            </a:r>
            <a:r>
              <a:rPr b="1" i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бублик</a:t>
            </a:r>
            <a:r>
              <a:rPr b="0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. Прошло много лет, но каждый раз, когда я вспоминаю фронт, мне приходит на память этот бублик. В такие минуты перед моими глазами предстаёт худенький, голодный, посиневший от холода ленинградский мальчик, который тоненькими, прозрачными пальчиками кладёт в посылку этот бублик… «Дяденьке солдату… чтобы кушал бублик и крепче бил фашистов!!!»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Нет, теперь я не удивляюсь тому, что мог лежать на лютом холоде целые дни, выслеживая фашистскую мразь, которая пыталась отнять у наших детей счастливое детство…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ойна принесла неисчислимые страдания моему родному Ленинграду.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9" name="Заголовок 1"/>
          <p:cNvSpPr/>
          <p:nvPr/>
        </p:nvSpPr>
        <p:spPr>
          <a:xfrm>
            <a:off x="1714680" y="6072120"/>
            <a:ext cx="2428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a2c"/>
                </a:solidFill>
                <a:latin typeface="Times New Roman"/>
                <a:ea typeface="Times New Roman"/>
              </a:rPr>
              <a:t>Портрет в летней форме</a:t>
            </a:r>
            <a:br>
              <a:rPr sz="3600"/>
            </a:b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Заголовок 1"/>
          <p:cNvSpPr/>
          <p:nvPr/>
        </p:nvSpPr>
        <p:spPr>
          <a:xfrm>
            <a:off x="4714920" y="6000840"/>
            <a:ext cx="242892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a2c"/>
                </a:solidFill>
                <a:latin typeface="Times New Roman"/>
                <a:ea typeface="Times New Roman"/>
              </a:rPr>
              <a:t>Портрет в зимней форме</a:t>
            </a:r>
            <a:br>
              <a:rPr sz="3600"/>
            </a:b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91" name="Picture 10" descr="C:\Documents and Settings\Сергей\Рабочий стол\В.Пчелинцев\Снимки Пчелинцева\В летней форме.jpg"/>
          <p:cNvPicPr/>
          <p:nvPr/>
        </p:nvPicPr>
        <p:blipFill>
          <a:blip r:embed="rId1"/>
          <a:stretch/>
        </p:blipFill>
        <p:spPr>
          <a:xfrm>
            <a:off x="165240" y="4357800"/>
            <a:ext cx="1589040" cy="228600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pic>
        <p:nvPicPr>
          <p:cNvPr id="192" name="Picture 11" descr="C:\Documents and Settings\Сергей\Рабочий стол\В.Пчелинцев\Снимки Пчелинцева\В зимней форме.jpg"/>
          <p:cNvPicPr/>
          <p:nvPr/>
        </p:nvPicPr>
        <p:blipFill>
          <a:blip r:embed="rId2"/>
          <a:stretch/>
        </p:blipFill>
        <p:spPr>
          <a:xfrm>
            <a:off x="7215120" y="4286160"/>
            <a:ext cx="1778040" cy="228600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193" name="Прямоугольник 10"/>
          <p:cNvSpPr/>
          <p:nvPr/>
        </p:nvSpPr>
        <p:spPr>
          <a:xfrm>
            <a:off x="1714680" y="4214880"/>
            <a:ext cx="5429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«125 блокадных грамм с огнём и кровью пополам» -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 этих двух стихотворных строках Ольги Берггольц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казано всё. Тогда, в суровое блокадное время, я обратился с призывом ко всем воинам действующей Красной Армии открыть свой личный счёт мести, развернуть боевое соревнование мстителей…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334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уппа №5 </a:t>
            </a:r>
            <a:br>
              <a:rPr sz="2400"/>
            </a:br>
            <a:r>
              <a:rPr b="1" lang="ru-RU" sz="2400" spc="-1" strike="noStrike" u="sng">
                <a:solidFill>
                  <a:srgbClr val="000033"/>
                </a:solidFill>
                <a:uFillTx/>
                <a:latin typeface="Times New Roman"/>
                <a:ea typeface="Times New Roman"/>
              </a:rPr>
              <a:t>Текст для анализа:</a:t>
            </a: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тихотворение Маргариты Пчелинцевой «Ветераны»</a:t>
            </a:r>
            <a:br>
              <a:rPr sz="2400"/>
            </a:b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95" name="Picture 2" descr="М"/>
          <p:cNvPicPr/>
          <p:nvPr/>
        </p:nvPicPr>
        <p:blipFill>
          <a:blip r:embed="rId1"/>
          <a:stretch/>
        </p:blipFill>
        <p:spPr>
          <a:xfrm>
            <a:off x="214200" y="1214280"/>
            <a:ext cx="8501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5643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b2bff"/>
                </a:solidFill>
                <a:latin typeface="Monotype Corsiva"/>
              </a:rPr>
              <a:t>Домашнее</a:t>
            </a:r>
            <a:r>
              <a:rPr b="1" lang="ru-RU" sz="5400" spc="-1" strike="noStrike">
                <a:solidFill>
                  <a:srgbClr val="3333ff"/>
                </a:solidFill>
                <a:latin typeface="Monotype Corsiva"/>
              </a:rPr>
              <a:t> задание</a:t>
            </a:r>
            <a:r>
              <a:rPr b="1" lang="ru-RU" sz="800" spc="-1" strike="noStrike">
                <a:solidFill>
                  <a:srgbClr val="3333ff"/>
                </a:solidFill>
                <a:latin typeface="Monotype Corsiva"/>
              </a:rPr>
              <a:t>  </a:t>
            </a:r>
            <a:r>
              <a:rPr b="1" lang="ru-RU" sz="1400" spc="-1" strike="noStrike">
                <a:solidFill>
                  <a:srgbClr val="3333ff"/>
                </a:solidFill>
                <a:latin typeface="Monotype Corsiva"/>
              </a:rPr>
              <a:t>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800"/>
            </a:br>
            <a:endParaRPr b="0" lang="en-US" sz="1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97" name="Заголовок 1"/>
          <p:cNvSpPr/>
          <p:nvPr/>
        </p:nvSpPr>
        <p:spPr>
          <a:xfrm>
            <a:off x="500040" y="2928960"/>
            <a:ext cx="800100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ff"/>
                </a:solidFill>
                <a:latin typeface="Times New Roman"/>
                <a:ea typeface="Times New Roman"/>
              </a:rPr>
              <a:t>БАЗОВЫЙ уровень</a:t>
            </a:r>
            <a:r>
              <a:rPr b="0" lang="ru-RU" sz="2000" spc="-1" strike="noStrike">
                <a:solidFill>
                  <a:srgbClr val="2b2bff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357120" algn="just">
              <a:lnSpc>
                <a:spcPct val="100000"/>
              </a:lnSpc>
              <a:buClr>
                <a:srgbClr val="00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оставить кластер-схему на тему «Стили речи» (научный стиль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ff"/>
                </a:solidFill>
                <a:latin typeface="Times New Roman"/>
                <a:ea typeface="Times New Roman"/>
              </a:rPr>
              <a:t>ПОВЫШЕННЫЙ уровень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357120" algn="just">
              <a:lnSpc>
                <a:spcPct val="100000"/>
              </a:lnSpc>
              <a:buClr>
                <a:srgbClr val="00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оставить автобиографию В. Н. Пчелинцева (официально-деловой стиль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357120" algn="just">
              <a:lnSpc>
                <a:spcPct val="100000"/>
              </a:lnSpc>
              <a:buClr>
                <a:srgbClr val="00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оставить текст обращения В. Н. Пчелинцева к молодежи (публицистический стиль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357120" algn="just">
              <a:lnSpc>
                <a:spcPct val="100000"/>
              </a:lnSpc>
              <a:buClr>
                <a:srgbClr val="00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оставить разговор В. Н. Пчелинцева с сослуживцем в полевых условиях (разговорный стиль)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indent="357120" algn="just">
              <a:lnSpc>
                <a:spcPct val="100000"/>
              </a:lnSpc>
              <a:buClr>
                <a:srgbClr val="0000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Написать мини - эссе  или стихотворение, посвященное героям Великой Отечественной войны (художественный стиль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98" name="Picture 4" descr="C:\Documents and Settings\Сергей\Рабочий стол\pero-i-chernilnitsa.jpg"/>
          <p:cNvPicPr/>
          <p:nvPr/>
        </p:nvPicPr>
        <p:blipFill>
          <a:blip r:embed="rId1"/>
          <a:stretch/>
        </p:blipFill>
        <p:spPr>
          <a:xfrm>
            <a:off x="6276960" y="357120"/>
            <a:ext cx="2438280" cy="2428920"/>
          </a:xfrm>
          <a:prstGeom prst="rect">
            <a:avLst/>
          </a:prstGeom>
          <a:ln w="0">
            <a:noFill/>
          </a:ln>
        </p:spPr>
      </p:pic>
      <p:sp>
        <p:nvSpPr>
          <p:cNvPr id="199" name="Прямоугольник 8"/>
          <p:cNvSpPr/>
          <p:nvPr/>
        </p:nvSpPr>
        <p:spPr>
          <a:xfrm>
            <a:off x="428760" y="928800"/>
            <a:ext cx="8286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Представьте, что вы журналист, который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 ходе подготовки к празднованию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75-летия Победы готовит материалы о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героях Великой Отечественной войны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ам необходимо на выбор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. Н. Пчелинцев на открытии Музея истории 9 школы </a:t>
            </a:r>
            <a:br>
              <a:rPr sz="2400"/>
            </a:b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25 мая 1984 года</a:t>
            </a: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201" name="Picture 13" descr="C:\Documents and Settings\Сергей\Рабочий стол\Снимки Пчелинцева\Открытие музея 25.05.1984\Фото № 1.jpg"/>
          <p:cNvPicPr/>
          <p:nvPr/>
        </p:nvPicPr>
        <p:blipFill>
          <a:blip r:embed="rId1"/>
          <a:stretch/>
        </p:blipFill>
        <p:spPr>
          <a:xfrm>
            <a:off x="500040" y="1206360"/>
            <a:ext cx="3929040" cy="25797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202" name="Picture 14" descr="C:\Documents and Settings\Сергей\Рабочий стол\Снимки Пчелинцева\Открытие музея 25.05.1984\Фото № 2.jpg"/>
          <p:cNvPicPr/>
          <p:nvPr/>
        </p:nvPicPr>
        <p:blipFill>
          <a:blip r:embed="rId2"/>
          <a:stretch/>
        </p:blipFill>
        <p:spPr>
          <a:xfrm>
            <a:off x="4621320" y="1214280"/>
            <a:ext cx="4022640" cy="25718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203" name="Picture 15" descr="C:\Documents and Settings\Сергей\Рабочий стол\Снимки Пчелинцева\Открытие музея 25.05.1984\Фото № 3.jpg"/>
          <p:cNvPicPr/>
          <p:nvPr/>
        </p:nvPicPr>
        <p:blipFill>
          <a:blip r:embed="rId3"/>
          <a:stretch/>
        </p:blipFill>
        <p:spPr>
          <a:xfrm>
            <a:off x="4572000" y="3929040"/>
            <a:ext cx="4071960" cy="263988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204" name="Picture 16" descr="C:\Documents and Settings\Сергей\Рабочий стол\Снимки Пчелинцева\Открытие музея 25.05.1984\Фото № 5.jpg"/>
          <p:cNvPicPr/>
          <p:nvPr/>
        </p:nvPicPr>
        <p:blipFill>
          <a:blip r:embed="rId4"/>
          <a:stretch/>
        </p:blipFill>
        <p:spPr>
          <a:xfrm>
            <a:off x="571680" y="3929040"/>
            <a:ext cx="3857400" cy="27147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28680" y="2285640"/>
            <a:ext cx="47149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Невский Сергей Анатольевич,</a:t>
            </a:r>
            <a:br>
              <a:rPr sz="2400"/>
            </a:b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учитель русского языка и литературы</a:t>
            </a:r>
            <a:br>
              <a:rPr sz="2400"/>
            </a:b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МОУ «Средняя школа №9»</a:t>
            </a:r>
            <a:br>
              <a:rPr sz="2400"/>
            </a:b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г. Петрозаводск, ул. Антикайнена, д. 4</a:t>
            </a:r>
            <a:br>
              <a:rPr sz="2400"/>
            </a:b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тел. 77-27-79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email</a:t>
            </a: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 u="sng">
                <a:solidFill>
                  <a:srgbClr val="cc00cc"/>
                </a:solidFill>
                <a:uFillTx/>
                <a:latin typeface="Times New Roman"/>
                <a:ea typeface="Times New Roman"/>
                <a:hlinkClick r:id="rId1"/>
              </a:rPr>
              <a:t>nevskys@mail.ru</a:t>
            </a:r>
            <a:br>
              <a:rPr sz="2400"/>
            </a:br>
            <a:r>
              <a:rPr b="0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Материалы к уроку отобраны из фонда Музея истории школы</a:t>
            </a:r>
            <a:br>
              <a:rPr sz="2400"/>
            </a:br>
            <a:endParaRPr b="0" lang="en-US" sz="24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206" name="Заголовок 1"/>
          <p:cNvSpPr/>
          <p:nvPr/>
        </p:nvSpPr>
        <p:spPr>
          <a:xfrm>
            <a:off x="3429000" y="642960"/>
            <a:ext cx="25002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пасибо за работу на уроке!</a:t>
            </a:r>
            <a:br>
              <a:rPr sz="3600"/>
            </a:b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07" name="Picture 5" descr="C:\Documents and Settings\Сергей\Рабочий стол\WCE3IdoPHys.jpg"/>
          <p:cNvPicPr/>
          <p:nvPr/>
        </p:nvPicPr>
        <p:blipFill>
          <a:blip r:embed="rId2"/>
          <a:stretch/>
        </p:blipFill>
        <p:spPr>
          <a:xfrm>
            <a:off x="571680" y="2286000"/>
            <a:ext cx="3187440" cy="4221000"/>
          </a:xfrm>
          <a:prstGeom prst="rect">
            <a:avLst/>
          </a:prstGeom>
          <a:ln w="12600">
            <a:solidFill>
              <a:srgbClr val="bfbfbf"/>
            </a:solidFill>
            <a:miter/>
          </a:ln>
        </p:spPr>
      </p:pic>
      <p:pic>
        <p:nvPicPr>
          <p:cNvPr id="208" name="Picture 2" descr="Логотип Победа"/>
          <p:cNvPicPr/>
          <p:nvPr/>
        </p:nvPicPr>
        <p:blipFill>
          <a:blip r:embed="rId3"/>
          <a:stretch/>
        </p:blipFill>
        <p:spPr>
          <a:xfrm>
            <a:off x="357120" y="357120"/>
            <a:ext cx="2857680" cy="152424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pic>
        <p:nvPicPr>
          <p:cNvPr id="209" name="Picture 3" descr="Логотип Карелия"/>
          <p:cNvPicPr/>
          <p:nvPr/>
        </p:nvPicPr>
        <p:blipFill>
          <a:blip r:embed="rId4"/>
          <a:stretch/>
        </p:blipFill>
        <p:spPr>
          <a:xfrm>
            <a:off x="6008760" y="357120"/>
            <a:ext cx="2730600" cy="15717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12"/>
          <p:cNvSpPr/>
          <p:nvPr/>
        </p:nvSpPr>
        <p:spPr>
          <a:xfrm flipH="1">
            <a:off x="2356920" y="1643040"/>
            <a:ext cx="755640" cy="48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071960" y="1643040"/>
            <a:ext cx="78588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428760" y="2143080"/>
            <a:ext cx="27144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Разговорный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3786120" y="2143080"/>
            <a:ext cx="2571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Книжные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1785960" y="4572000"/>
            <a:ext cx="34416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Публицистический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6572160" y="3571920"/>
            <a:ext cx="220032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Научный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00040" y="3571920"/>
            <a:ext cx="400068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Официально-деловой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4643280" y="2643120"/>
            <a:ext cx="117720" cy="18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9" name="Line 4"/>
          <p:cNvSpPr/>
          <p:nvPr/>
        </p:nvSpPr>
        <p:spPr>
          <a:xfrm flipH="1">
            <a:off x="5857920" y="2643120"/>
            <a:ext cx="71280" cy="18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Line 3"/>
          <p:cNvSpPr/>
          <p:nvPr/>
        </p:nvSpPr>
        <p:spPr>
          <a:xfrm flipH="1">
            <a:off x="2857320" y="2643120"/>
            <a:ext cx="92844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Line 2"/>
          <p:cNvSpPr/>
          <p:nvPr/>
        </p:nvSpPr>
        <p:spPr>
          <a:xfrm>
            <a:off x="6357960" y="2643120"/>
            <a:ext cx="92880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Rectangle 1"/>
          <p:cNvSpPr/>
          <p:nvPr/>
        </p:nvSpPr>
        <p:spPr>
          <a:xfrm>
            <a:off x="5429160" y="4572000"/>
            <a:ext cx="314352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Художественный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406240" y="1073160"/>
            <a:ext cx="236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Стили речи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C:\Documents and Settings\Сергей\Рабочий стол\837219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285840" y="357120"/>
            <a:ext cx="857232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ТИЛЬ, -я, м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ru-RU" sz="2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вокупность черт, близость выразительных художественных приемов и средств, обусловливающие собой единство какого-н. направления в творчестве</a:t>
            </a:r>
            <a:r>
              <a:rPr b="0" lang="ru-RU" sz="23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1" i="1" lang="ru-RU" sz="23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Национальный с. в живописи</a:t>
            </a:r>
            <a:r>
              <a:rPr b="1" lang="ru-RU" sz="23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. </a:t>
            </a:r>
            <a:endParaRPr b="0" lang="en-US" sz="23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lang="ru-RU" sz="23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етод, совокупность приемов какой-н. работы, деятельности, поведения</a:t>
            </a:r>
            <a:r>
              <a:rPr b="0" lang="ru-RU" sz="23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1" i="1" lang="ru-RU" sz="2300" spc="-1" strike="noStrike">
                <a:solidFill>
                  <a:srgbClr val="001a2c"/>
                </a:solidFill>
                <a:latin typeface="Times New Roman"/>
                <a:ea typeface="Times New Roman"/>
              </a:rPr>
              <a:t>С.в работе. С. руководства</a:t>
            </a:r>
            <a:r>
              <a:rPr b="1" lang="ru-RU" sz="2300" spc="-1" strike="noStrike">
                <a:solidFill>
                  <a:srgbClr val="001a2c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ru-RU" sz="23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вокупность приемов использования языковых средств для выражения тех или иных идей, мыслей в различных условиях речевой практики</a:t>
            </a:r>
            <a:r>
              <a:rPr b="0" lang="ru-RU" sz="23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r>
              <a:rPr b="1" i="1" lang="ru-RU" sz="23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Научный, публицистический с.</a:t>
            </a:r>
            <a:endParaRPr b="0" lang="en-US" sz="23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ru-RU" sz="23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вокупность приемов использования языковых средств, определяющие своеобразие творчества писателя, отдельного произведения</a:t>
            </a:r>
            <a:r>
              <a:rPr b="0" lang="ru-RU" sz="23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</a:t>
            </a:r>
            <a:r>
              <a:rPr b="0" lang="ru-RU" sz="2300" spc="-1" strike="noStrike">
                <a:solidFill>
                  <a:srgbClr val="00416e"/>
                </a:solidFill>
                <a:latin typeface="Times New Roman"/>
                <a:ea typeface="Times New Roman"/>
              </a:rPr>
              <a:t> </a:t>
            </a:r>
            <a:r>
              <a:rPr b="1" i="1" lang="ru-RU" sz="23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С. Достоевского. С. басен Крылова.</a:t>
            </a:r>
            <a:r>
              <a:rPr b="1" lang="ru-RU" sz="23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 </a:t>
            </a:r>
            <a:endParaRPr b="0" lang="en-US" sz="23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ru-RU" sz="23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щность художественных приемов, характерных для какого-н. литературного жанра, направления, эпохи</a:t>
            </a:r>
            <a:r>
              <a:rPr b="1" lang="ru-RU" sz="2300" spc="-1" strike="noStrike">
                <a:solidFill>
                  <a:srgbClr val="00416e"/>
                </a:solidFill>
                <a:latin typeface="Times New Roman"/>
                <a:ea typeface="Times New Roman"/>
              </a:rPr>
              <a:t>. </a:t>
            </a:r>
            <a:r>
              <a:rPr b="1" i="1" lang="ru-RU" sz="23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Одический, элегический, эпический с.</a:t>
            </a:r>
            <a:r>
              <a:rPr b="1" lang="ru-RU" sz="23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</a:t>
            </a:r>
            <a:endParaRPr b="0" lang="en-US" sz="23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(Толковый словарь С. И. Ожегова)</a:t>
            </a:r>
            <a:endParaRPr b="0" lang="en-US" sz="23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0" y="0"/>
          <a:ext cx="9144000" cy="6837480"/>
        </p:xfrm>
        <a:graphic>
          <a:graphicData uri="http://schemas.openxmlformats.org/drawingml/2006/table">
            <a:tbl>
              <a:tblPr/>
              <a:tblGrid>
                <a:gridCol w="1461960"/>
                <a:gridCol w="1460520"/>
                <a:gridCol w="1254240"/>
                <a:gridCol w="1239840"/>
                <a:gridCol w="2176560"/>
                <a:gridCol w="1550880"/>
              </a:tblGrid>
              <a:tr h="404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или речи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фера употребления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илевые черты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изнаки, языковые средства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анры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щение в непринужденной обстановке (с друзьями, близкими), обмен мыслями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щение в быту, беседы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ивость, экспрессивность, непринужден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иалог, просторечная, разговорная лексика, эмоционально-окрашенные слова. Вопросительные, восклицательные предложения. Мимика, жесты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седа, разговор, записка, частные письма и др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общение, передача официальной информации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щение людей с учреждениями, переписка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очность, краткость, шаблонность, отсутствие эмоциональности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фициально-деловая лексика, устойчивые обороты речи, термины, речевые штампы, канцеляризмы. Строгость изложения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коны, приказы, постановления, протоколы, справки, объявления, деловые бумаги и др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общение, объяснение научных фактов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учно-исследовательская деятель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остоверность, точность, логичность, объектив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ермины, схемы, формулы. Слова употребляются в прямом значении. Строгость изложения. Отсутствие образных средств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учная статья, научная работа, доклад, учебники и др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62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оздействие на слушателей. Агитация и пропаганда в газетах, журналах, по радио и на телевидении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гитационно-массовая, общественно-политическая  деятель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разность, эмоциональность, оценочность, личностный характер изложения, доступность, лаконич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ращения, слова высокого стиля. Торжественная лексика. Обсуждение проблем. Побудительные, восклицательные предложения, риторические вопросы, прямое обращение к читателю или слушателю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атья, очерк, репортаж, фельетон, интервью, ораторская речь, судебная речь, устное публичное выступление и др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444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оздействие с помощью образов на чувства и мысли читателей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овесно-художественное творчество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разность, выразительность, многостиль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Широкое использование средств художественной выразительности, художественных приемов, образных выражений. Употребление слов в переносном значении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ассказ, повесть, роман, стихотворение и др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42600" y="1214280"/>
            <a:ext cx="500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Monotype Corsiva"/>
              </a:rPr>
              <a:t>ЗАЧЕМ говорим?</a:t>
            </a:r>
            <a:endParaRPr b="0" lang="en-US" sz="54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Monotype Corsiva"/>
              </a:rPr>
              <a:t>С КЕМ говорим? </a:t>
            </a:r>
            <a:r>
              <a:rPr b="0" lang="en-US" sz="5400" spc="-1" strike="noStrike">
                <a:solidFill>
                  <a:srgbClr val="000066"/>
                </a:solidFill>
                <a:latin typeface="Monotype Corsiva"/>
              </a:rPr>
              <a:t>	</a:t>
            </a:r>
            <a:r>
              <a:rPr b="0" lang="en-US" sz="5400" spc="-1" strike="noStrike">
                <a:solidFill>
                  <a:srgbClr val="000066"/>
                </a:solidFill>
                <a:latin typeface="Monotype Corsiva"/>
              </a:rPr>
              <a:t>	</a:t>
            </a:r>
            <a:endParaRPr b="0" lang="en-US" sz="54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66"/>
                </a:solidFill>
                <a:latin typeface="Monotype Corsiva"/>
              </a:rPr>
              <a:t>КАК говорим?</a:t>
            </a:r>
            <a:endParaRPr b="0" lang="en-US" sz="5400" spc="-1" strike="noStrike">
              <a:solidFill>
                <a:srgbClr val="000066"/>
              </a:solidFill>
              <a:latin typeface="Tahoma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5143680" y="1928880"/>
            <a:ext cx="135720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0" name="Line 11"/>
          <p:cNvSpPr/>
          <p:nvPr/>
        </p:nvSpPr>
        <p:spPr>
          <a:xfrm flipV="1">
            <a:off x="5286240" y="3117960"/>
            <a:ext cx="1000440" cy="2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1" name="Line 11"/>
          <p:cNvSpPr/>
          <p:nvPr/>
        </p:nvSpPr>
        <p:spPr>
          <a:xfrm flipV="1">
            <a:off x="5143680" y="3785760"/>
            <a:ext cx="1214280" cy="85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2" name="Прямоугольник 6"/>
          <p:cNvSpPr/>
          <p:nvPr/>
        </p:nvSpPr>
        <p:spPr>
          <a:xfrm>
            <a:off x="6163920" y="2714760"/>
            <a:ext cx="293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Monotype Corsiva"/>
              </a:rPr>
              <a:t>= СТИЛЬ </a:t>
            </a:r>
            <a:endParaRPr b="0" lang="en-US" sz="4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978600"/>
        </p:xfrm>
        <a:graphic>
          <a:graphicData uri="http://schemas.openxmlformats.org/drawingml/2006/table">
            <a:tbl>
              <a:tblPr/>
              <a:tblGrid>
                <a:gridCol w="1461960"/>
                <a:gridCol w="1460520"/>
                <a:gridCol w="1254240"/>
                <a:gridCol w="1239840"/>
                <a:gridCol w="2176560"/>
                <a:gridCol w="1550880"/>
              </a:tblGrid>
              <a:tr h="4208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или речи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фера употребления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илевые черты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изнаки, языковые средства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анры 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чем говорим?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де говорим?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ак говорим?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036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азговорный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щение в непринужденной обстановке (с друзьями, близкими), обмен мыслями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щение в быту, беседы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ивость, экспрессивность, непринужден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иалог, просторечная, разговорная лексика, эмоционально-окрашенные слова. Вопросительные, восклицательные предложения. Мимика, жесты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седа, разговор, записка, частные письма и др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фициально-деловой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общение, передача официальной информации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щение людей с учреждениями, переписка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очность, краткость, шаблонность, отсутствие эмоциональности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фициально-деловая лексика, устойчивые обороты речи, термины, речевые штампы, канцеляризмы. Строгость изложения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коны, приказы, постановления, протоколы, справки, объявления, деловые бумаги и др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учный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общение, объяснение научных фактов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учно-исследовательская деятель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остоверность, точность, логичность, объектив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Термины, схемы, формулы. Слова употребляются в прямом значении. Строгость изложения. Отсутствие образных средств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Научная статья, научная работа, доклад, учебники и др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ублицистический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оздействие на слушателей. Агитация и пропаганда в газетах, журналах, по радио и на телевидении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гитационно-массовая, общественно-политическая  деятель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разность, эмоциональность, оценочность, личностный характер изложения, доступность, лаконич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ращения, слова высокого стиля. Торжественная лексика. Обсуждение проблем. Побудительные, восклицательные предложения, риторические вопросы, прямое обращение к читателю или слушателю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татья, очерк, репортаж, фельетон, интервью, ораторская речь, судебная речь, устное публичное выступление и др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9880"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Художественный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оздействие с помощью образов на чувства и мысли читателей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овесно-художественное творчество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бразность, выразительность, многостильность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Широкое использование средств художественной выразительности, художественных приемов, образных выражений. Употребление слов в переносном значении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ассказ, повесть, роман, стихотворение и др.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Tahoma"/>
                      </a:endParaRPr>
                    </a:p>
                  </a:txBody>
                  <a:tcPr anchor="t" marL="41760" marR="41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14200"/>
            <a:ext cx="840600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ff"/>
                </a:solidFill>
                <a:latin typeface="Monotype Corsiva"/>
              </a:rPr>
              <a:t>Правила работы в группе:</a:t>
            </a:r>
            <a:endParaRPr b="0" lang="en-US" sz="60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071960" y="1294920"/>
            <a:ext cx="4386240" cy="499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важай своего товарища!</a:t>
            </a:r>
            <a:endParaRPr b="0" lang="en-US" sz="4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мей каждого выслушать!</a:t>
            </a:r>
            <a:endParaRPr b="0" lang="en-US" sz="4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Не согласен – предлагай! </a:t>
            </a:r>
            <a:endParaRPr b="0" lang="en-US" sz="4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6" name="Picture 5" descr="C:\Documents and Settings\Сергей\Рабочий стол\hello_html_m3c9e5b0d.jpg"/>
          <p:cNvPicPr/>
          <p:nvPr/>
        </p:nvPicPr>
        <p:blipFill>
          <a:blip r:embed="rId1"/>
          <a:stretch/>
        </p:blipFill>
        <p:spPr>
          <a:xfrm>
            <a:off x="857160" y="1285920"/>
            <a:ext cx="2857680" cy="2340000"/>
          </a:xfrm>
          <a:prstGeom prst="rect">
            <a:avLst/>
          </a:prstGeom>
          <a:ln w="19080">
            <a:solidFill>
              <a:srgbClr val="000056"/>
            </a:solidFill>
            <a:miter/>
          </a:ln>
        </p:spPr>
      </p:pic>
      <p:pic>
        <p:nvPicPr>
          <p:cNvPr id="157" name="Picture 6" descr="C:\Documents and Settings\Сергей\Рабочий стол\hello_html_m7b22c640.png"/>
          <p:cNvPicPr/>
          <p:nvPr/>
        </p:nvPicPr>
        <p:blipFill>
          <a:blip r:embed="rId2"/>
          <a:stretch/>
        </p:blipFill>
        <p:spPr>
          <a:xfrm>
            <a:off x="857160" y="3922560"/>
            <a:ext cx="2838600" cy="256716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400" y="2785680"/>
            <a:ext cx="4071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33"/>
                </a:solidFill>
                <a:latin typeface="Monotype Corsiva"/>
                <a:ea typeface="Times New Roman"/>
              </a:rPr>
              <a:t>Владимир Николаевич Пчелинцев</a:t>
            </a:r>
            <a:br>
              <a:rPr sz="3200"/>
            </a:br>
            <a:r>
              <a:rPr b="1" lang="ru-RU" sz="3200" spc="-1" strike="noStrike">
                <a:solidFill>
                  <a:srgbClr val="000033"/>
                </a:solidFill>
                <a:latin typeface="Monotype Corsiva"/>
                <a:ea typeface="Times New Roman"/>
              </a:rPr>
              <a:t>(1919-1997) </a:t>
            </a:r>
            <a:br>
              <a:rPr sz="3200"/>
            </a:br>
            <a:r>
              <a:rPr b="1" lang="ru-RU" sz="3200" spc="-1" strike="noStrike">
                <a:solidFill>
                  <a:srgbClr val="000033"/>
                </a:solidFill>
                <a:latin typeface="Monotype Corsiva"/>
                <a:ea typeface="Times New Roman"/>
              </a:rPr>
              <a:t>Герой Советского Союза, прославленный снайпер Великой Отечественной войны</a:t>
            </a:r>
            <a:br>
              <a:rPr sz="1600"/>
            </a:br>
            <a:endParaRPr b="0" lang="en-US" sz="3200" spc="-1" strike="noStrike">
              <a:solidFill>
                <a:srgbClr val="3333ff"/>
              </a:solidFill>
              <a:latin typeface="Tahoma"/>
            </a:endParaRPr>
          </a:p>
        </p:txBody>
      </p:sp>
      <p:pic>
        <p:nvPicPr>
          <p:cNvPr id="159" name="Picture 2" descr="Логотип Победа"/>
          <p:cNvPicPr/>
          <p:nvPr/>
        </p:nvPicPr>
        <p:blipFill>
          <a:blip r:embed="rId1"/>
          <a:stretch/>
        </p:blipFill>
        <p:spPr>
          <a:xfrm>
            <a:off x="428760" y="571680"/>
            <a:ext cx="4038480" cy="2214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C:\Documents and Settings\Сергей\Рабочий стол\В.Пчелинцев\Снимки Пчелинцева\В пилотке со Звездой ГСС.jpg"/>
          <p:cNvPicPr/>
          <p:nvPr/>
        </p:nvPicPr>
        <p:blipFill>
          <a:blip r:embed="rId2"/>
          <a:stretch/>
        </p:blipFill>
        <p:spPr>
          <a:xfrm>
            <a:off x="4786200" y="500040"/>
            <a:ext cx="3857760" cy="543708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161" name="Заголовок 1"/>
          <p:cNvSpPr/>
          <p:nvPr/>
        </p:nvSpPr>
        <p:spPr>
          <a:xfrm>
            <a:off x="4643280" y="6000840"/>
            <a:ext cx="4143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(Фото из фонда Музея истории школы)</a:t>
            </a:r>
            <a:br>
              <a:rPr sz="3600"/>
            </a:b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Documents and Settings\Сергей\Рабочий стол\Рисунок1.jpg"/>
          <p:cNvPicPr/>
          <p:nvPr/>
        </p:nvPicPr>
        <p:blipFill>
          <a:blip r:embed="rId1"/>
          <a:stretch/>
        </p:blipFill>
        <p:spPr>
          <a:xfrm>
            <a:off x="4857840" y="571680"/>
            <a:ext cx="3871800" cy="5429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Documents and Settings\Сергей\Рабочий стол\gfk_VL1KShs.jpg"/>
          <p:cNvPicPr/>
          <p:nvPr/>
        </p:nvPicPr>
        <p:blipFill>
          <a:blip r:embed="rId2"/>
          <a:stretch/>
        </p:blipFill>
        <p:spPr>
          <a:xfrm>
            <a:off x="500040" y="642960"/>
            <a:ext cx="4165560" cy="1857240"/>
          </a:xfrm>
          <a:prstGeom prst="rect">
            <a:avLst/>
          </a:prstGeom>
          <a:ln w="69840">
            <a:solidFill>
              <a:srgbClr val="f2f2f2"/>
            </a:solidFill>
            <a:miter/>
          </a:ln>
        </p:spPr>
      </p:pic>
      <p:pic>
        <p:nvPicPr>
          <p:cNvPr id="164" name="Picture 4" descr="C:\Documents and Settings\Сергей\Рабочий стол\Рисунок2.jpg"/>
          <p:cNvPicPr/>
          <p:nvPr/>
        </p:nvPicPr>
        <p:blipFill>
          <a:blip r:embed="rId3"/>
          <a:stretch/>
        </p:blipFill>
        <p:spPr>
          <a:xfrm>
            <a:off x="500040" y="3071880"/>
            <a:ext cx="4125960" cy="29080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840" y="2500200"/>
            <a:ext cx="471492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Галерея Героев Советского Союза в Петрозаводске</a:t>
            </a:r>
            <a:br>
              <a:rPr sz="1600"/>
            </a:br>
            <a:endParaRPr b="0" lang="en-US" sz="1600" spc="-1" strike="noStrike">
              <a:solidFill>
                <a:srgbClr val="3333ff"/>
              </a:solidFill>
              <a:latin typeface="Tahoma"/>
            </a:endParaRPr>
          </a:p>
        </p:txBody>
      </p:sp>
      <p:sp>
        <p:nvSpPr>
          <p:cNvPr id="166" name="Заголовок 1"/>
          <p:cNvSpPr/>
          <p:nvPr/>
        </p:nvSpPr>
        <p:spPr>
          <a:xfrm>
            <a:off x="500040" y="6000840"/>
            <a:ext cx="40719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Работа в Музее истории школы</a:t>
            </a:r>
            <a:br>
              <a:rPr sz="1600"/>
            </a:b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7" name="Заголовок 1"/>
          <p:cNvSpPr/>
          <p:nvPr/>
        </p:nvSpPr>
        <p:spPr>
          <a:xfrm>
            <a:off x="4714920" y="5929200"/>
            <a:ext cx="40719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Возложение цветов к Мемориальной доске на здании 9 школы</a:t>
            </a:r>
            <a:br>
              <a:rPr sz="1600"/>
            </a:b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6:54:26Z</dcterms:created>
  <dc:creator>Наталия</dc:creator>
  <dc:description/>
  <dc:language>en-US</dc:language>
  <cp:lastModifiedBy>kab1</cp:lastModifiedBy>
  <dcterms:modified xsi:type="dcterms:W3CDTF">2019-11-01T14:58:41Z</dcterms:modified>
  <cp:revision>76</cp:revision>
  <dc:subject/>
  <dc:title>Стили речи</dc:title>
</cp:coreProperties>
</file>